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4.wmf" ContentType="image/x-wmf"/>
  <Override PartName="/ppt/media/image1.jpeg" ContentType="image/jpeg"/>
  <Override PartName="/ppt/media/image27.gif" ContentType="image/gif"/>
  <Override PartName="/ppt/media/image31.jpeg" ContentType="image/jpeg"/>
  <Override PartName="/ppt/media/image32.png" ContentType="image/png"/>
  <Override PartName="/ppt/media/image2.png" ContentType="image/png"/>
  <Override PartName="/ppt/media/image4.jpeg" ContentType="image/jpeg"/>
  <Override PartName="/ppt/media/image8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23.gif" ContentType="image/gif"/>
  <Override PartName="/ppt/media/image7.wmf" ContentType="image/x-wmf"/>
  <Override PartName="/ppt/media/image12.wmf" ContentType="image/x-wmf"/>
  <Override PartName="/ppt/media/image9.wmf" ContentType="image/x-wmf"/>
  <Override PartName="/ppt/media/image10.jpeg" ContentType="image/jpeg"/>
  <Override PartName="/ppt/media/image30.wmf" ContentType="image/x-wmf"/>
  <Override PartName="/ppt/media/image3.jpeg" ContentType="image/jpeg"/>
  <Override PartName="/ppt/media/image14.wmf" ContentType="image/x-wmf"/>
  <Override PartName="/ppt/media/image16.jpeg" ContentType="image/jpeg"/>
  <Override PartName="/ppt/media/image13.wmf" ContentType="image/x-wmf"/>
  <Override PartName="/ppt/media/image17.gif" ContentType="image/gif"/>
  <Override PartName="/ppt/media/image19.jpeg" ContentType="image/jpeg"/>
  <Override PartName="/ppt/media/image29.wmf" ContentType="image/x-wmf"/>
  <Override PartName="/ppt/media/image20.gif" ContentType="image/gif"/>
  <Override PartName="/ppt/media/image6.jpeg" ContentType="image/jpeg"/>
  <Override PartName="/ppt/media/image21.wmf" ContentType="image/x-wmf"/>
  <Override PartName="/ppt/media/image26.gif" ContentType="image/gif"/>
  <Override PartName="/ppt/media/image22.wmf" ContentType="image/x-wmf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824-DE05-4D0F-890E-5141672F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121-5140-4508-BC3C-C36E9340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04B-FD5A-4709-A430-92DE34B2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148-978A-4EA9-8FE6-7EC5BD67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4FF-2C27-4368-BF8F-FD443AD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8CD-68DA-480D-B210-4DD4E4E4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AB0-70D8-4FEE-95D2-57333F42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6C3-6EBB-49D5-8312-3CE3095D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C57-3AFD-4F93-8F64-2694739E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71D-2FF2-4495-BB10-0156057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A30-19B0-4402-832A-0C26B275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7F1-9B33-42AC-BB3F-02241B09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50B4-AADB-4EDF-AF61-80F55F370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Meine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war im SeaWorld geblieben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ein Buch geles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286000" cy="205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4647960" cy="369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in die Strasse spazie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gutes Essen gegess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2971800" cy="1719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89520" y="4132440"/>
            <a:ext cx="4254480" cy="2725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14400" y="2666880"/>
            <a:ext cx="3124080" cy="2694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Flordia geflim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3809880"/>
            <a:ext cx="179532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2895480" cy="2660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2666880"/>
            <a:ext cx="3178080" cy="3353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usik ge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usic"/>
          <p:cNvSpPr/>
          <p:nvPr/>
        </p:nvSpPr>
        <p:spPr>
          <a:xfrm>
            <a:off x="5943600" y="2209680"/>
            <a:ext cx="2514600" cy="4114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52960" cy="192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20908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gemach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3235320" cy="358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243180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hat mir gut gefallen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 musst Florida gegang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Flord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war im Hotel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Miami besichtig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in am See schwimmen gegang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eine Familie besuch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218040" cy="376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3699000"/>
            <a:ext cx="3200400" cy="239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476440" cy="248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die Innenstadt fotografie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viel Sport gemacht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199548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71296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09480" y="2362320"/>
            <a:ext cx="2286000" cy="195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Ich war im Museum gesehen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56:07Z</dcterms:created>
  <dc:creator>CUSD220</dc:creator>
  <dc:description/>
  <dc:language>en-US</dc:language>
  <cp:lastModifiedBy>Murphy</cp:lastModifiedBy>
  <dcterms:modified xsi:type="dcterms:W3CDTF">2011-11-20T22:02:56Z</dcterms:modified>
  <cp:revision>4</cp:revision>
  <dc:subject/>
  <dc:title>Ich war in Flordia!</dc:title>
</cp:coreProperties>
</file>